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523E-5C73-43E4-A546-425E05BC2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7AF9-A044-4138-A204-32958FDE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A9C8-CEDA-4B9D-BC85-4F2FB69AA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31BF-7BA9-4AD0-8CB8-092FC9CB3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46D5-6177-4718-99E4-1DAB674F5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B492-C48F-4EFE-976E-44FAAA0BA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F19D-F216-4A70-B698-A1FF5E53A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8B13-CA69-42F6-9FF9-6B1619CB2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7221-F1A7-46DB-A104-BF990F544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2F39-876B-4263-8B3D-1B11684D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12D5-F5DD-42EE-9AA1-C7987979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6233-17F6-497F-AC58-05F1D590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B88AD-F6D8-4D7D-BC3C-38567B00E3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482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"/>
              </a:rPr>
              <a:t>Cost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63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63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mes reduce to m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63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"/>
              </a:rPr>
              <a:t>Cost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63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63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63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 com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63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t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63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8619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G2 + vin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C6250 + br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C6275 + 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OLDl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63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NT 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619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G3 and suc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oldRa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b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63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equ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62280"/>
            <a:ext cx="8229600" cy="25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martphone (exit seg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term challenge, no good way to low  cost UM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ly problems with software features in  mid-term (price press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n-house ultra low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pping 2G feature phones to focus on 3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3T12:42:37Z</dcterms:created>
  <dc:creator>Dingle Rick</dc:creator>
  <dc:description/>
  <dc:language>en-US</dc:language>
  <cp:lastModifiedBy>Dingle Rick</cp:lastModifiedBy>
  <dcterms:modified xsi:type="dcterms:W3CDTF">2004-12-03T12:44:28Z</dcterms:modified>
  <cp:revision>1</cp:revision>
  <dc:subject/>
  <dc:title>Cost Reduction</dc:title>
</cp:coreProperties>
</file>